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339-0AB7-4025-A614-A20F686A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2A5-9EBF-44E9-A209-012AF0BE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F08-E6E7-41E5-8397-99D37AE3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1FE-9D89-4052-8CDD-446C5025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7455-9C9C-4A71-BDB5-E9668E8F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8078-2CD6-4F0F-87C2-7CFDB226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730C-30AA-4BA6-81BE-3E835874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A7CC-504D-4BBD-9F56-E6B990F4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1DE4-4E7E-4AD8-879A-426F2D76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6A39-392B-4D87-B5F7-5433F1FF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D461-43E1-4E33-B497-20A66BEB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F8B-69EA-44AD-B21C-E7C39269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F249-5540-4253-9464-3D635980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20A5-1195-4FB0-810C-1FBAA9E7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4905-E0ED-49A7-8B6C-E9C15600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11AE-1DB3-4A37-B4C0-44F5EFE9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7A99-0D9F-4AB7-A931-CDC6F470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48702-D428-4CDE-8F2D-6A26D98D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4C8C-95F4-41CA-9965-0DB182A5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9AA5-8AE0-43E0-8EBA-95B11BB0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39D98-C579-451B-817F-37510A9C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D68A0-8DC3-4128-B94F-1EF225CD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E57-68DF-4500-B83A-D30E3CCA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A9AB9-F780-4582-8666-363F8DE9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0D14-00B5-4A1E-96B5-C0A09B5F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311C7-8B67-4AB5-AE17-C2033F66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1622-D636-4879-98DA-F785C17D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C205-58CA-4B0F-8CC8-4896FDA7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947B4-3202-4312-8994-994140A3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F5AC-D39E-4EC1-8DE5-71B55328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F1746-5A8E-474B-A9C7-F0C68578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91C44-35CB-4CEB-AFF5-4CA81207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E5B0E-59CB-4D87-A0CE-CE9853E4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081-B07A-49FB-9DDA-761AF8C0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2E4F-687F-4A53-B679-C8F117E3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BCEC5-97D1-46D7-AB54-6C3763B7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FD5FB-2D47-45DB-8B6A-707A342C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51B1-A936-4A65-950E-A0B9327A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D9BCC-4F12-4FAC-80D2-73C8D732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E8C33-B369-4AC2-B677-08E98B24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F30ED-8465-4269-BDCC-EE2DA823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BB1FD-666B-4AE3-B6C1-072F1134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7B6E-BADA-423E-9CE6-5CC9F67C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AD63B-3D8A-4475-83E0-200FD5A7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ED7-DBD3-4C60-9D20-5856DE85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E8D81-3E86-4269-85DC-80453BA5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415C1-AD27-422E-8A83-9F1653CD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9FB57-0DC9-48E8-AB3E-141B4AEF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2668A-6F91-491E-875E-D1226105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84171-94DE-4AC3-852F-B11643BF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25AE0-19BE-4ACA-8F39-86ACE15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30FD1-C5FB-40D5-B416-FBE30B9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1EB5A-AC67-4269-BD4C-C07F7C57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41490-3A48-4AF4-BBCC-8CD75009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2B6E8-F007-4D3E-A484-B9C96F2E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822-A53C-4CA6-B255-C6D6D07E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1A9E3-2873-447B-945B-0E06FCC6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672-20E3-4BC4-8FD9-264DAC3E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C3F-DB44-4EE7-BA1C-F0E76DBB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A4A-81AD-40C5-9CED-A0051F1C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60BA-C27F-4363-BDFE-8D947D2F1DF2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2CE2-400C-496F-9FD6-78059479B2FC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C66C-23E5-4EEB-BDE7-A00C5B297FD9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4E57-245E-4D23-AF1C-9971555F19CA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6BD2-2566-41B3-AEF1-680C6A93D214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2819520" y="457200"/>
            <a:ext cx="4724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еликая Отечественная война</a:t>
            </a:r>
            <a:br>
              <a:rPr sz="4300"/>
            </a:br>
            <a:r>
              <a:rPr b="1" lang="ru-RU" sz="43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2 июня 1941г. – 9 мая 1945г.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7" descr="2"/>
          <p:cNvPicPr/>
          <p:nvPr/>
        </p:nvPicPr>
        <p:blipFill>
          <a:blip r:embed="rId1"/>
          <a:stretch/>
        </p:blipFill>
        <p:spPr>
          <a:xfrm>
            <a:off x="2286000" y="2932200"/>
            <a:ext cx="4952880" cy="3011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Program Files\Microsoft Office\MEDIA\OFFICE12\Lines\BD21313_.gif"/>
          <p:cNvPicPr/>
          <p:nvPr/>
        </p:nvPicPr>
        <p:blipFill>
          <a:blip r:embed="rId2"/>
          <a:stretch/>
        </p:blipFill>
        <p:spPr>
          <a:xfrm>
            <a:off x="457200" y="304920"/>
            <a:ext cx="281160" cy="61722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5334120" y="2895480"/>
            <a:ext cx="3200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icture background"/>
          <p:cNvPicPr/>
          <p:nvPr/>
        </p:nvPicPr>
        <p:blipFill>
          <a:blip r:embed="rId1"/>
          <a:stretch/>
        </p:blipFill>
        <p:spPr>
          <a:xfrm>
            <a:off x="31680" y="-30240"/>
            <a:ext cx="5108760" cy="315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Picture background"/>
          <p:cNvPicPr/>
          <p:nvPr/>
        </p:nvPicPr>
        <p:blipFill>
          <a:blip r:embed="rId2"/>
          <a:stretch/>
        </p:blipFill>
        <p:spPr>
          <a:xfrm>
            <a:off x="4572000" y="-76320"/>
            <a:ext cx="4589640" cy="315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Picture background"/>
          <p:cNvPicPr/>
          <p:nvPr/>
        </p:nvPicPr>
        <p:blipFill>
          <a:blip r:embed="rId3"/>
          <a:stretch/>
        </p:blipFill>
        <p:spPr>
          <a:xfrm>
            <a:off x="0" y="3112920"/>
            <a:ext cx="4724280" cy="3440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Picture background"/>
          <p:cNvPicPr/>
          <p:nvPr/>
        </p:nvPicPr>
        <p:blipFill>
          <a:blip r:embed="rId4"/>
          <a:stretch/>
        </p:blipFill>
        <p:spPr>
          <a:xfrm>
            <a:off x="4724280" y="3078000"/>
            <a:ext cx="441972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ф</dc:creator>
  <dc:description/>
  <dc:language>en-US</dc:language>
  <cp:lastModifiedBy>ф</cp:lastModifiedBy>
  <dcterms:modified xsi:type="dcterms:W3CDTF">2025-03-24T08:55:36Z</dcterms:modified>
  <cp:revision>27</cp:revision>
  <dc:subject/>
  <dc:title>Великая Отечественная война 1941 - 1945</dc:title>
</cp:coreProperties>
</file>