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37A-6CFA-4865-BBCA-4FC0BE3C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BC5-24E0-4A12-84FE-5D7FF7B2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AF3-C2AA-4577-BD0E-BBCC3E90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D43-10EF-46EE-88DE-BFAB264E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E603-113C-4838-9A10-F26E1FF1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7A18-BF17-4FE3-A090-DC7C30AD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325D-2B46-4B45-8ED1-85C3D93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4BC4-D809-43CE-9D8F-87BA0D9C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AC66-E2F3-4218-ABA9-E6A242E7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5078-D9BD-40F5-8D24-E72E4C88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CF38-340E-4730-8900-2E520B02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012-183A-46F2-8583-C6F3C046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FF3A-B57F-4C39-B808-22E93C8C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6D71-481A-43A1-A46A-9C561A50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C9EC-6072-4528-AB95-B0EC8ADF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772E-A3A1-4142-8EDB-5C77AF00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0588-F695-484F-97F9-9B63DC22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E560-29AA-4783-9D87-7B53392B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2ECB-6DAA-4534-A455-607A0F70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CD69-05B1-487B-BF4B-9B8D4DDF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C2E7-B0C8-46BA-AEEC-520666E5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3144-3AF8-40EB-B192-C686525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BFC-B88B-4EB4-84F9-4E413915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BF49-CCB3-4B69-8EEB-F5C7AC1C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2206-5E71-4640-A41C-1090FAB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60F5C-8D83-498B-A214-0B213BB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487C-1C9B-4CF1-BA05-3A9102B5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2376-41BB-4438-92CA-520A7BE9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D9F0-3D1F-4AFB-A46B-59BD3A77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E16C-2D29-438E-B778-30245E47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1298-ADC3-4EC9-9BA3-48DB51C7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BF58-A15E-4C6E-B6C5-35D167B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6894-2445-4DBC-9482-9394A63C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FE7-A0F5-4F95-96C4-B98040DD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5DA7-EAAA-477D-9FDB-7E18DFA5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E3BD-66C5-4F95-9A08-FA8A0A7D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3BFF-6067-4E22-AE7A-ED0EE75D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35FEC-D342-44EB-8DE6-097B563B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6D707-F236-46E7-AE29-26F7B1D5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5590-98C0-4FD5-AB0E-85BCC90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3B88-CD6A-4079-84E4-5FC6C4E4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BF03-C40B-487D-8C4E-A29C1F97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ECA6-16B3-4933-808D-053961FD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92D5-1322-45A1-925A-E171E636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4E5-0FF6-4117-9DBF-D6176175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E1E1A-7FDB-4578-843D-0C33C184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0C1D-4D72-4B07-B5C2-F5143CE3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EB7EE-D7F7-46D0-8BEF-F4985D5B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951F-14B4-4381-8C0A-BA815594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7F7DB-2E49-4E85-BFF6-4431C379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BD30-7BA2-4EBC-84D0-BE1215C3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C5A2-E4BA-4014-9772-5CA8F43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C581-073A-4682-8289-A748FD45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C6143-A240-4082-B6CE-DF8D41B5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A8D79-E777-471F-B975-6E55095D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19B-C3FA-45C9-B102-F077ABDC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CC52-4008-43BF-AC42-970DF01B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A18-3E9D-4C7D-A2B1-0FD178C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FA7-C3AA-4B3F-B9C1-2D5F610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360-9546-4994-9FB8-BDB8CBD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696-5B31-45F8-B48E-48C11AEF69A7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C36E-2A52-49A7-BEC2-1315EF7A2E9D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31E8-C48D-4D82-BD34-27266D905790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69BF-0D42-4782-98B5-C03E8244EE32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8644-6273-4221-978C-70D5B4B478B4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2819520" y="457200"/>
            <a:ext cx="4724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еликая Отечественная война</a:t>
            </a:r>
            <a:br>
              <a:rPr sz="4300"/>
            </a:br>
            <a:r>
              <a:rPr b="1" lang="ru-RU" sz="43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2 июня 1941г. – 9 мая 1945г.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7" descr="2"/>
          <p:cNvPicPr/>
          <p:nvPr/>
        </p:nvPicPr>
        <p:blipFill>
          <a:blip r:embed="rId1"/>
          <a:stretch/>
        </p:blipFill>
        <p:spPr>
          <a:xfrm>
            <a:off x="2286000" y="2932200"/>
            <a:ext cx="4952880" cy="3011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Program Files\Microsoft Office\MEDIA\OFFICE12\Lines\BD21313_.gif"/>
          <p:cNvPicPr/>
          <p:nvPr/>
        </p:nvPicPr>
        <p:blipFill>
          <a:blip r:embed="rId2"/>
          <a:stretch/>
        </p:blipFill>
        <p:spPr>
          <a:xfrm>
            <a:off x="457200" y="304920"/>
            <a:ext cx="281160" cy="61722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5334120" y="2895480"/>
            <a:ext cx="3200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icture background"/>
          <p:cNvPicPr/>
          <p:nvPr/>
        </p:nvPicPr>
        <p:blipFill>
          <a:blip r:embed="rId1"/>
          <a:stretch/>
        </p:blipFill>
        <p:spPr>
          <a:xfrm>
            <a:off x="31680" y="-30240"/>
            <a:ext cx="5108760" cy="315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Picture background"/>
          <p:cNvPicPr/>
          <p:nvPr/>
        </p:nvPicPr>
        <p:blipFill>
          <a:blip r:embed="rId2"/>
          <a:stretch/>
        </p:blipFill>
        <p:spPr>
          <a:xfrm>
            <a:off x="4572000" y="-76320"/>
            <a:ext cx="4589640" cy="315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Picture background"/>
          <p:cNvPicPr/>
          <p:nvPr/>
        </p:nvPicPr>
        <p:blipFill>
          <a:blip r:embed="rId3"/>
          <a:stretch/>
        </p:blipFill>
        <p:spPr>
          <a:xfrm>
            <a:off x="0" y="3112920"/>
            <a:ext cx="4724280" cy="344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Picture background"/>
          <p:cNvPicPr/>
          <p:nvPr/>
        </p:nvPicPr>
        <p:blipFill>
          <a:blip r:embed="rId4"/>
          <a:stretch/>
        </p:blipFill>
        <p:spPr>
          <a:xfrm>
            <a:off x="4724280" y="3078000"/>
            <a:ext cx="441972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</dc:creator>
  <dc:description/>
  <dc:language>en-US</dc:language>
  <cp:lastModifiedBy>ф</cp:lastModifiedBy>
  <dcterms:modified xsi:type="dcterms:W3CDTF">2025-03-24T08:55:36Z</dcterms:modified>
  <cp:revision>27</cp:revision>
  <dc:subject/>
  <dc:title>Великая Отечественная война 1941 - 1945</dc:title>
</cp:coreProperties>
</file>