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8F4-1F48-46F3-A6CF-41369981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37F-4785-4F81-9E63-2281BB37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D0B-25DC-4DD4-BC60-7AEE8BCA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FE4-0F74-4D7D-9144-FF85A096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FE3A-A774-45C5-A5DD-509D3906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1417-7AAF-4648-A960-305AAAEC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6D15-C8E3-4B2B-B792-5E55DE26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283B-D81C-40EE-83F4-A75CAF0C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21EF-A559-4BE1-ADB5-F840418C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BDE1-AC9A-405D-BEC8-D719E432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77AC-1358-4F7B-9F99-57125FD8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439-308D-4638-AB6E-B0F99FCB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CC5C-F871-4817-8394-F05688BA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FF0C-66C4-43B0-8C88-6784CCEF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10C0-2D39-45E6-875D-A9A50213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B670-6CDF-493C-A23E-B0CC2CEF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2984-5FB4-490A-A60B-B45CADC3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2B453-19F4-4E9D-B2A7-21F462E4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4B244-1385-4511-9849-FDC87AAF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1D788-85AE-420E-B9FB-889AE16B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A008E-95BC-4A76-B50D-C6D1B52F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3C076-0E8F-4305-A273-7311DC7F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F24-0B6A-4FAB-8C38-D8E13799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84B89-96EE-4414-8382-42914144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872B6-0ABE-4ACD-9CAE-9782C191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FE164-AB0E-4C58-ADB1-AABBE530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60A2F-5137-41FC-8D69-D3091E31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831E4-1D1A-4F33-806C-C9FC21EC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C4C41-BFA2-4144-8F9D-4A54898B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63493-45C2-45DE-ACB7-63AE9E75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97E91-F022-42F6-A7E0-E9F21B31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4C6A1-2799-45E8-A611-141DAB91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7A0E3-1EEF-42D7-96FA-30ACD467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63CC-26BB-4B55-A5E8-6117D2C8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BCE46-568E-4649-AAA3-986EBBE3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B5112-D55F-4425-8B7A-ACE04812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1BC91-A3E0-4178-B119-F825B44B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2ADD0-9F4F-4D2A-91E7-46A6FBE9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9C1A7-2499-465A-8A34-E6613388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F9EBD-3797-4183-97DE-8B946AA2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FBF65-5496-4340-8E77-545200DF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A67A6-FCC3-4DD0-8B1D-04EC8953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08854-1F28-406F-ACDB-15DC35DD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CEA30-FDD2-45B9-B577-2CDF7579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402-6C21-4DCA-9608-F5A21F71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2828D-93C8-45CD-83C3-3E2F6AC9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CED78-B0D0-47D3-9095-188573EB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2CC22-20FC-482C-97BA-C2DC67EB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08877-4864-44D9-AE38-0BF3D66D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FB4C0-C9F6-4DF5-A4E8-7AB7C29E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A513C-DDD6-4F00-BE63-A43D96A8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92868-2ADA-47FE-9B9C-E780F01F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F1F79-28B0-4123-836A-95D9B908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BA740-D3B7-48FE-9A5E-3030363A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72A60-231A-407E-A8D2-F649B78C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5CF-5EF4-414E-A82B-B5EDB5E4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EF9CA-FA89-442C-93A9-A35A51BD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395-18BC-414A-B993-D9E79ADC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BF2-B209-4BA0-8CA3-A6C65840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0A8-546C-4D26-9D86-35CAB6A7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5F17-3EB5-4BD7-94BB-9CBB92754CF9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4220-C2EB-4E04-BACB-B0CF10D4A884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F553-2F3C-45DD-9CF6-E16176079D40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192B-08BC-4B3A-A846-8DC259186A9D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1452-9890-413F-B844-CEA647E51C0C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2819520" y="457200"/>
            <a:ext cx="4724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еликая Отечественная война</a:t>
            </a:r>
            <a:br>
              <a:rPr sz="4300"/>
            </a:br>
            <a:r>
              <a:rPr b="1" lang="ru-RU" sz="43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2 июня 1941г. – 9 мая 1945г.</a:t>
            </a:r>
            <a:endParaRPr b="1" lang="en-US" sz="43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Picture 7" descr="2"/>
          <p:cNvPicPr/>
          <p:nvPr/>
        </p:nvPicPr>
        <p:blipFill>
          <a:blip r:embed="rId1"/>
          <a:stretch/>
        </p:blipFill>
        <p:spPr>
          <a:xfrm>
            <a:off x="2286000" y="2932200"/>
            <a:ext cx="4952880" cy="3011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Program Files\Microsoft Office\MEDIA\OFFICE12\Lines\BD21313_.gif"/>
          <p:cNvPicPr/>
          <p:nvPr/>
        </p:nvPicPr>
        <p:blipFill>
          <a:blip r:embed="rId2"/>
          <a:stretch/>
        </p:blipFill>
        <p:spPr>
          <a:xfrm>
            <a:off x="457200" y="304920"/>
            <a:ext cx="281160" cy="61722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5334120" y="2895480"/>
            <a:ext cx="3200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icture background"/>
          <p:cNvPicPr/>
          <p:nvPr/>
        </p:nvPicPr>
        <p:blipFill>
          <a:blip r:embed="rId1"/>
          <a:stretch/>
        </p:blipFill>
        <p:spPr>
          <a:xfrm>
            <a:off x="31680" y="-30240"/>
            <a:ext cx="5108760" cy="315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Picture background"/>
          <p:cNvPicPr/>
          <p:nvPr/>
        </p:nvPicPr>
        <p:blipFill>
          <a:blip r:embed="rId2"/>
          <a:stretch/>
        </p:blipFill>
        <p:spPr>
          <a:xfrm>
            <a:off x="4572000" y="-76320"/>
            <a:ext cx="4589640" cy="3154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Picture background"/>
          <p:cNvPicPr/>
          <p:nvPr/>
        </p:nvPicPr>
        <p:blipFill>
          <a:blip r:embed="rId3"/>
          <a:stretch/>
        </p:blipFill>
        <p:spPr>
          <a:xfrm>
            <a:off x="0" y="3112920"/>
            <a:ext cx="4724280" cy="3440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Picture background"/>
          <p:cNvPicPr/>
          <p:nvPr/>
        </p:nvPicPr>
        <p:blipFill>
          <a:blip r:embed="rId4"/>
          <a:stretch/>
        </p:blipFill>
        <p:spPr>
          <a:xfrm>
            <a:off x="4724280" y="3078000"/>
            <a:ext cx="4419720" cy="3475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mbria"/>
              </a:rPr>
              <a:t>Четыре года в истории нашей страны длилась Великая Отечественная война. В эти годы отвагу и героизм проявили не только люди, но и их четвероногие друзья. Специально обученные собаки выполняли на фронте самые разные работы. Животные были санитарами, искателями мин, связистами, поводырями*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mbria"/>
              </a:rPr>
              <a:t>Собаки-санитары таскали на себе рюкзачки с медикаментами. Они отыскивали раненых солдат и спасали их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mbria"/>
              </a:rPr>
              <a:t>Собаки-миноискатели обнаруживали мины, а сапёры эти мины обезвреживали. Одного из хвостатых сапёров звали Джульбарс. У него были уникальные способности в поиске мин. Благодаря ему были спасены жизни тысяч людей. 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mbria"/>
              </a:rPr>
              <a:t>Собаки-связисты доставляли важные поручения, донесения и прокладывали телефонные провода даже там, где велись жестокие сражения. Именно такими отважными были собаки Альма и Рекс. Они выполняли свою работу, несмотря на ранения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mbria"/>
              </a:rPr>
              <a:t>Собаки оказались надежными спутниками солдат. Они проявили смелость в тяжелое время. Все они  - настоящие герои Великой Отечественной войны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mbria"/>
              </a:rPr>
              <a:t> 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ф</dc:creator>
  <dc:description/>
  <dc:language>en-US</dc:language>
  <cp:lastModifiedBy>ф</cp:lastModifiedBy>
  <dcterms:modified xsi:type="dcterms:W3CDTF">2025-03-24T08:54:05Z</dcterms:modified>
  <cp:revision>26</cp:revision>
  <dc:subject/>
  <dc:title>Великая Отечественная война 1941 - 1945</dc:title>
</cp:coreProperties>
</file>