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877-6B93-493F-8223-70BA0D68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DC1-1F41-47B6-B226-86361E80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A47-E7AA-4789-A78A-83677FF9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C20-A345-4D95-B108-B5212B3A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15AD-E477-44D5-BA0A-243FD401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CFD2-462A-4F94-8F59-54E13DE6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8A7C-BA12-4EA1-A228-08CEAB96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E290-2B2A-4B83-89A8-1EF36F6C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3750-933B-4434-9815-66A77345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34CE-BAAF-4237-B3D8-B63CC451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FB33-8EA8-4253-8ED3-99C389C9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7D9-216A-418C-8B89-F3BABB0F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9DDE-2026-4047-AA0F-1EB2D32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BE5D-EA86-4ECB-8418-867D6781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4A5B-0A6A-47E3-814E-2A5C2217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B3C2-48AD-403D-BCDC-7D116DF3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4DB8-9B7C-41FF-8826-F34F0DF3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26E4-AC0F-4058-B35A-D9B86350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8544-6A40-4918-B229-2A3626C9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D510-67C2-4576-A0E7-444AE24E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BF239-B714-4A49-845C-EF92FAF4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65DDB-B04C-48A3-AF96-63DA2362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D44-D9C3-4180-B225-FF5F76FA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16D3-ED88-4DE6-BF00-1D88ABAC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2F8B-2BBE-4142-8070-6A0F3385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CD56-98F3-4B52-A174-19BEA28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A16CD-102B-4E8E-94C4-2A687530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DEDF1-3F42-454E-ABF0-C826B9D7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2593-6656-4346-9B9B-1F5F0EE7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4A02-35E9-43F5-B08D-73BA89E7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92DB-0997-447F-9513-6E5F64A1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9B666-8B6A-4547-B90C-2775B4C3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5F9A-6279-45B1-BEF3-AE9551CD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429-7A15-4A71-B1EF-0E13BB51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88097-359E-4180-B8AA-321ED972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36A4E-1DEA-4B38-8CF8-FB014C87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1DD60-CB69-44EC-A279-18A6F5ED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3805-EE93-4CC5-90C1-92D020B0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7AE7-FD59-4106-8A96-40A3D5F2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BE3F2-6599-47F4-BF02-528F83E9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49F01-DC8E-4988-A664-FF36484C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D3DA0-EDE0-4D36-8A1B-ACBD56E6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C2F3F-5994-452D-A422-12C381A7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D8C0E-C55B-4BD1-84B1-4ED8655A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E46-5B8C-4F33-8476-B123E659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E6DC2-D693-4A94-9C19-EE51EA29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E1246-CA85-41DD-AB05-86F88E91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6B5C1-21D7-49D2-902E-6C60DBAC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B1FF6-4184-4444-AD43-535CEB1D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55D22-EB99-40DB-83AF-5336AB20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AB7DA-55F4-409F-A362-713611E8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67C8A-E04A-42E6-92E9-A3D422F4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1D55B-99D2-4EF0-86D5-52608C0B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28EE4-B23A-4169-AEB3-CFCE654F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81C12-EB81-4936-B862-BEB7B65A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D67-A8D6-412D-8A9F-1888F902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B4367-408D-4A12-9F26-82970614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7A4-8741-4887-8F87-BA71ABCF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AE2-5535-4F6B-9559-6D04617C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23C-2C0C-4B3E-8640-76346DE2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B564-3340-4F4A-A2FE-B8E9F7E2CB81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8F8B-D6DF-4077-8E9B-A165FFCD5DBB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7ED7-0F4A-482E-9569-7A899EDA5FEE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D9F3-22A9-4293-A517-6F63E0D88E9A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95DE-1061-4265-B315-CE1974FEC158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2819520" y="457200"/>
            <a:ext cx="4724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еликая Отечественная война</a:t>
            </a:r>
            <a:br>
              <a:rPr sz="4300"/>
            </a:br>
            <a:r>
              <a:rPr b="1" lang="ru-RU" sz="43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2 июня 1941г. – 9 мая 1945г.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7" descr="2"/>
          <p:cNvPicPr/>
          <p:nvPr/>
        </p:nvPicPr>
        <p:blipFill>
          <a:blip r:embed="rId1"/>
          <a:stretch/>
        </p:blipFill>
        <p:spPr>
          <a:xfrm>
            <a:off x="2286000" y="2932200"/>
            <a:ext cx="4952880" cy="3011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Program Files\Microsoft Office\MEDIA\OFFICE12\Lines\BD21313_.gif"/>
          <p:cNvPicPr/>
          <p:nvPr/>
        </p:nvPicPr>
        <p:blipFill>
          <a:blip r:embed="rId2"/>
          <a:stretch/>
        </p:blipFill>
        <p:spPr>
          <a:xfrm>
            <a:off x="457200" y="304920"/>
            <a:ext cx="281160" cy="61722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5334120" y="2895480"/>
            <a:ext cx="3200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icture background"/>
          <p:cNvPicPr/>
          <p:nvPr/>
        </p:nvPicPr>
        <p:blipFill>
          <a:blip r:embed="rId1"/>
          <a:stretch/>
        </p:blipFill>
        <p:spPr>
          <a:xfrm>
            <a:off x="31680" y="-30240"/>
            <a:ext cx="5108760" cy="315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Picture background"/>
          <p:cNvPicPr/>
          <p:nvPr/>
        </p:nvPicPr>
        <p:blipFill>
          <a:blip r:embed="rId2"/>
          <a:stretch/>
        </p:blipFill>
        <p:spPr>
          <a:xfrm>
            <a:off x="4572000" y="-76320"/>
            <a:ext cx="4589640" cy="315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Picture background"/>
          <p:cNvPicPr/>
          <p:nvPr/>
        </p:nvPicPr>
        <p:blipFill>
          <a:blip r:embed="rId3"/>
          <a:stretch/>
        </p:blipFill>
        <p:spPr>
          <a:xfrm>
            <a:off x="0" y="3112920"/>
            <a:ext cx="4724280" cy="3440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Picture background"/>
          <p:cNvPicPr/>
          <p:nvPr/>
        </p:nvPicPr>
        <p:blipFill>
          <a:blip r:embed="rId4"/>
          <a:stretch/>
        </p:blipFill>
        <p:spPr>
          <a:xfrm>
            <a:off x="4724280" y="3078000"/>
            <a:ext cx="441972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</dc:creator>
  <dc:description/>
  <dc:language>en-US</dc:language>
  <cp:lastModifiedBy>ф</cp:lastModifiedBy>
  <dcterms:modified xsi:type="dcterms:W3CDTF">2025-03-24T08:55:36Z</dcterms:modified>
  <cp:revision>27</cp:revision>
  <dc:subject/>
  <dc:title>Великая Отечественная война 1941 - 1945</dc:title>
</cp:coreProperties>
</file>