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3BD-CB77-40BE-82BD-09823C62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724-CC48-426E-B25B-A95430E7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8B5-07AA-4811-B1D9-1E27DC63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FB5-A330-45FA-A3D7-358A725B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DD7F-98E2-456D-B355-CC5E878A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6DC4-A991-4A37-80B5-86CB796A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8911-84D8-4A11-9F85-5AFF6F03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5CB9-F909-4453-BBD5-0162265D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6FEE-1834-4202-AE27-65F6CE91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2AF3-1A87-4D02-A56A-02E62FB8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1084-8983-48C8-94BA-28620ED0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896-F5FA-43E1-8C53-333DB793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5FA7-E2EB-4878-9679-3863E2D4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7614-9336-48D4-A137-76AF7B7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2ABD-DC67-45DC-B3FB-DD472C1E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AC62-119E-42B9-94B8-384551E6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5993-736B-4C58-BCFD-6A449AB1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2CDF-8906-4C2A-8EBF-9BC29B80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BFD1-0476-4050-9860-2C0F5D4C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91F0-7E22-4B27-8479-79C88341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14DB-ECB9-45D0-B2AB-149DD837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92669-820B-4B29-9328-29926AF3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26D-5504-417C-A043-0AF9E118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6117-734A-4318-A9FB-960F0A95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CABBD-7CAD-44EA-B247-00BB8D4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DACA-1817-4528-BE13-5D4B84DF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27FF3-FADD-4F35-8980-40CAF67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75CB-D141-4783-8BB1-D7045499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7163-F429-4722-AFDB-C2714971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07F1-0C36-4E04-8712-FC85111A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E827-2CDD-489D-8DD1-6C0F29A3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1D8A9-FC08-4F2E-8643-AEEFF1E5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5247B-317E-4E66-A081-B59D0D64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2CD-63EA-4AC2-A15D-41F7B1F3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CA4A9-695E-4344-8786-251E053E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BE30-5884-48E3-848B-3BA9872C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F6359-D9BF-4FB9-AAE3-2F3987CC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1122D-6A60-43AC-A93D-C11E5BA0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8CFF-2FB2-4A3C-AE5C-0AF96E98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15F20-28FC-45C9-8D7D-0CE4C58E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DE8BC-73B9-4920-980D-84C3451C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E725D-446E-43CE-A0B2-B485A95F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75B5F-7B4B-43F0-9645-66A45BDD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35AB9-D64A-4093-A718-08DBABE5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3EF-5604-45FB-88CB-078DAF5B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122C7-DECB-4823-B8E8-F92C80C3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74C2B-095F-4D6C-B6A9-704375C9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E39AA-4264-48C3-A61C-925C6013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C98B6-CA73-414A-A8A3-726D5DE5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DC65-C497-4127-97F5-100D6181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5DC1F-B513-4C00-807A-48BE9870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CD0A6-24E7-4CEC-83DB-26612836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FFF5B-188D-4A18-9FE6-8B9504E6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4CEDC-3ADD-4121-95E6-6451CD76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94652-FE0E-4BA0-B181-AF04BBEC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462-C970-417C-A7FE-03A0EBDB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6FC9B-BB05-4093-B4B9-21E31385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2206-8A80-4705-8C5E-8AE6800E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C1D3D-9ADB-4ED2-B5F1-110F5D96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994E0-82E6-4D2F-90E4-2BFD0400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418BF-4832-474A-B495-FF9C4CAC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78879-066A-4DD2-916E-1682ED7E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02FB3-AB67-48A3-B166-CB1A7EED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73BF9-CBC2-42BB-97CD-2C11C206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1BB39-5E70-4DD7-BA03-471F3529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C5149-C24D-48CA-BB74-4AEA7BF0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8CB-3BE0-4F5C-B7AD-C2806F57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D3A10-C2F2-4B6F-9835-423D56B2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331D7-3200-488A-A326-FDEB7736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149B-90BB-498A-9EB4-9BE168F6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5CD22-01BF-47F8-A865-E398935D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2F533-28E3-40E4-A033-A5C4AD39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BF52E-5BEC-4BA3-B69D-B7C8D9BE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EC981-7FAE-44D3-A193-E152512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7134D-96D5-4148-9ADB-F2238614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D11F4-95DD-4093-BF5B-769AC4E1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FDFE0-8F99-488E-8764-1BAAA677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AA0-89D9-4173-B40B-4CF1AB25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D44A6-843B-48C4-A465-0801E51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43FE0-D6B7-46A3-BD6F-33686A7E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07C34-AF17-46E5-99BA-C5EE53D8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89A25-A046-408A-BF90-C1C94692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07B88-D904-4139-A13F-95458D03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541-E1B4-4BFD-8294-A3A72BA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6BEB-A8E1-43FC-9009-7F0990E50B66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E9BF-98B2-448E-97FE-034DC28BF2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10FC-B749-4F16-9C72-F75BFD6AA543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A41F-6EBC-423B-AED6-27494C41794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E0DC-E76F-4514-8C86-6C6781D180CD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12D0-E9BB-4DD6-9EB5-631AC8C0F2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FA2E-4431-4E93-A39C-2019251C75B4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6982-89A4-435F-B2EA-246564211FA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4117-E466-4703-B2F9-F8A7D7F97A88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465C-D404-40A3-89C9-5D850D9A5C7F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EDA7-F49B-4A5F-A506-21BC537AF339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9576-520E-41AB-817A-7F636004C4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F6E2-1C16-4427-9EE3-AFC18771A197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4225-F85F-4A72-A9EE-CA29BEAD6E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лнце, воздух и вода- главные условия жизни на Земле</a:t>
            </a: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637052"/>
              </a:solidFill>
              <a:latin typeface="Calibri Light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E272-1DD0-4A8C-AD5B-789A4D7DE89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читайте сказку и определите, в чем ее смысл</a:t>
            </a:r>
            <a:br>
              <a:rPr sz="43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Calibri"/>
              </a:rPr>
              <a:t>Жили-были старик со старухой у самого синего моря. Забросил дед в море невод и вытащил... ржавую  банку, пластиковый  пакет.Закинул  невод во второй раз — выловил рваный башмак и изношенную «лысую» шину. В третий раз, как и полагается, попалась старику рыбка. Да не простая, а, известное дело, золотая. И, известное дело, заговорила она человечьим голосом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Calibri"/>
              </a:rPr>
              <a:t>Но вот чудо! Не стала золотая рыбка просить: мол, отпусти меня, старче, в море. А, наоборот, стала молвить: только не отпускай меня, старче, в море. Лучше кинь в аквариум — отслужу тебе за это любую службу. Посмотри на мои плавники, они черные стали. А я   хочу остаться рыбкой золотою!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Почему рыбка не захотела обратно в море? Почему не захотела жить с нефтяными плавниками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1C42-9255-41BB-AD48-C8DE92396E2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читайте абзацы, посвященные   охране воды и воздуха и ответьте, какие плакаты или рисунки можно нарисовать сегодня на уроке?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0A8B-2B3D-46AC-A51A-4C8433D8F2E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7092-7AD6-43D4-B23E-60A4AF8D59D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7847-1732-4E22-9F4B-D7C9B3C9500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3" descr=""/>
          <p:cNvPicPr/>
          <p:nvPr/>
        </p:nvPicPr>
        <p:blipFill>
          <a:blip r:embed="rId1"/>
          <a:stretch/>
        </p:blipFill>
        <p:spPr>
          <a:xfrm>
            <a:off x="762120" y="776160"/>
            <a:ext cx="761976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EA5-71F8-4785-A3B8-49D3FAAEE25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3" descr="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4FDD-0B52-4A08-BC80-0FE733C49E9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A0F9-83A1-4D88-ABD2-48DE97D47D8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3" descr="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1625-E299-4C06-8F2C-CE1126529C1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3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0:45:43Z</dcterms:created>
  <dc:creator>sysadmin</dc:creator>
  <dc:description/>
  <dc:language>en-US</dc:language>
  <cp:lastModifiedBy>PC_USER</cp:lastModifiedBy>
  <dcterms:modified xsi:type="dcterms:W3CDTF">2023-04-24T11:08:03Z</dcterms:modified>
  <cp:revision>1184</cp:revision>
  <dc:subject/>
  <dc:title>«ПОДГОТОВКА ПРОФЕССИОНАЛЬНЫХ КАДРОВ ДЛЯ ЭКОНОМИКИ РЕГИОНА: СОСТОЯНИЕ, ПРИОРИТЕТЫ, ПЕРСПЕКТИВЫ»  11 ноября 2010 года</dc:title>
</cp:coreProperties>
</file>