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92557-D87E-4121-A72C-2557CCD08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7FA99-71C3-4F60-8C14-45856032D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B1F5D-BCAA-4EA8-9FE3-3F709A22B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7223A-8FB0-445E-837F-793CA14DB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C2E93-7C1C-4D9C-9166-A18E573B6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CAFD8-ED3E-4C8E-9917-513B92CE7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8EE03-6F91-4189-B161-7C2C73930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C814B-A5C6-4140-AF6E-D4C410243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36C13-CE2C-429A-8D99-B31E08DD7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FFC47-22F3-46B7-B1B5-AB14BBBC7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12153-65B3-4013-A2D5-5094BFAFB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A8CC6-793A-4233-A433-01F1B5921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733AE-131E-4C6C-BC25-006A89671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93E5B-945D-4FFE-93D3-4484C6EA8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61CEE-32FF-4ACA-AE38-D36820147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9B8E1-24F9-4EA7-AA48-C83692ED8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C0044-A7D4-4544-9141-5A628BB52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EBD3C4-25F3-41C6-811B-4CA813FF2C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788B1-0C72-44BF-B855-8CE8CFA421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9E068-4519-4518-AEE9-259C5F2BB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7B2254-C19E-411A-9723-451A119C8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8E463-6FEA-45D8-B0A5-F93ABC638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7C456-6E66-408F-8AD2-3B58D2E1D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30C919-431F-43A1-ADBE-A2CD9E794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72CF3-DB06-411F-953B-897F50C2D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6D04A-3C3C-4866-AFE6-9A42F5013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D64240-BFAC-4444-A1C7-7598BF9C2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DC6DCE-0C99-43A7-83A7-4CAAE06CD2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7F97E5-B40F-438C-B5BE-47F98ED66A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19C4D5-90F3-4A23-B4E8-DECE1DA0CB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2FFBFB-537F-49D5-9FF5-1FEB74F81C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1E0E58-0A80-4BBD-A840-67B6FE4AB1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CABDC-9682-4B41-8A4F-8EE30BC6E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D513E-6FA5-45AC-84D7-3971204DB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A2C5EF-CA4E-4840-9A1B-DE05F85D2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69DB29-41D6-4147-8D4F-7EECE3C9B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A7D1D6-8154-4D77-8F1E-B0399E898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4C16F-6BC6-417C-8A0A-ACA318699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A8C3A-B49E-4B17-80F4-FE38EDA88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1E140-D478-40B6-8F22-619B4D7F1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6FF72-CB5C-4A47-9B2F-A2254AFDA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C5EA0A-BED0-4860-9215-2731AE4C13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E7CA6C-7A26-475B-918C-006E756749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69670F-4B4B-424B-AABC-31792AD55C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8C1D7-CD84-458A-AE77-C05A162C2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45B630-4A4F-4804-BF1C-C31643A2B2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EBEB32-4BD3-44AE-B2D0-1342AB49BE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06DDAD-DB0F-4222-85DB-3AFD56990A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CBCC9A-2CAD-41B6-A961-506791CB5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EB6E12-4DA3-41F3-8CCA-1FA0A12950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A3ACD-A222-4C19-89B4-E16225137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F8F68-DF20-40BE-87A8-B2123009B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6C8F0-D7BD-4E0F-B44E-AB97CE61A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230437-C1D8-4A4E-ACA5-60F7135EB4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D6F875-519D-458A-80FC-18B84D5FBB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C4838-FFC2-4985-8A27-46169A6B2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5E79C7-0207-4789-9D50-6569446315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8883B2-8494-4665-BAB1-6A7A38041A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4BF26D-7BC5-40E9-8C16-9B4479718F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43970D-6524-489B-8215-36B22271EC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FFCA31-BA92-4944-8916-EE5CDF76AA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A0FD95-3626-4729-9F4F-30E923848B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BC6519-BDAB-4DD4-83C4-863B006DBD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C62C5E-A7C6-4F0D-A392-47EB4BC4A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93B6B-42AB-4B29-9E56-DE697A7E4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A8065-7F59-420C-B32B-F709B30C1B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9A900-D03C-42D8-B7AC-AA6BE31C8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D094A5-0BCF-418F-BDA1-189C283E57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069796-899C-4547-AE73-70A0C45C79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8FB1EC-93D3-441A-AAE6-ECD49F4E13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212A3F-D029-4D16-929C-F57F46D25F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BC6C6-685B-4651-84B6-2159BE726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A55515-222A-4413-9FFD-7A4583C84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684F87-1E2C-4027-8C49-5547B34934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0A213F-C4B3-4795-93C5-3A9B6FA46E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DDE3D8-6164-42CD-BF02-D30E4EC9A4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A0665D-206B-4272-954D-09FC14C881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DC75-F45B-4629-B710-D4D3D9814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0E8D86-E590-446A-B923-A3A2AB72F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E8BCDE-A768-45EF-853E-2C7B389AF6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25EAAC-A3D6-4EE7-B5F0-31BADD504F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44C2F3-9E4F-4658-A695-F1C87A009D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0A8727-1EFB-482D-90CE-ACBDEDA1A5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DA32B-AF27-42B8-BFAD-8DE2BF0D1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AA64-B742-4B08-83EB-CBE8543FC126}" type="datetime">
              <a:rPr b="0" lang="ru-RU"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72EE-98CD-4CE2-B239-AFF3AC593F4F}"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F553-58F3-48D8-9C9D-1EFA11DB146B}" type="datetime">
              <a:rPr b="0" lang="ru-RU"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030F-9E70-4E85-A2F2-6BD8CEB3AAAF}"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B5FC-158B-4212-BA36-D2FD35A986D2}" type="datetime">
              <a:rPr b="0" lang="ru-RU"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2CF7-6DDF-4A6C-A79B-E699A18DA0CC}"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ED58-E901-435C-8328-FEE4F1581A69}" type="datetime">
              <a:rPr b="0" lang="ru-RU"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0906-9528-41FD-ADAD-779F327FE15E}"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0259-CBF8-498C-916F-C982BFFE0737}" type="datetime">
              <a:rPr b="0" lang="ru-RU"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637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3B09-E924-4229-ADCD-712567F6EAB1}" type="slidenum">
              <a:rPr b="0" lang="ru-RU"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12F4-6A57-4E18-8850-131C895AF9C0}" type="datetime">
              <a:rPr b="0" lang="ru-RU"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4BF5-AC7F-4078-BB48-388EB72495A5}"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6217-FAF9-4919-907E-CC55E0818ADE}" type="datetime">
              <a:rPr b="0" lang="ru-RU"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B7C4-10E9-4F43-8B20-581F0E13839A}"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Солнце, воздух и вода- главные условия жизни на Земле</a:t>
            </a:r>
            <a:br>
              <a:rPr sz="3100"/>
            </a:br>
            <a:br>
              <a:rPr sz="3100"/>
            </a:br>
            <a:endParaRPr b="0" lang="en-US" sz="3600" spc="-1" strike="noStrike">
              <a:solidFill>
                <a:srgbClr val="404040"/>
              </a:solidFill>
              <a:latin typeface="Calibri Light"/>
            </a:endParaRPr>
          </a:p>
        </p:txBody>
      </p:sp>
      <p:sp>
        <p:nvSpPr>
          <p:cNvPr id="305" name="PlaceHolder 2"/>
          <p:cNvSpPr>
            <a:spLocks noGrp="1"/>
          </p:cNvSpPr>
          <p:nvPr>
            <p:ph type="subTitle"/>
          </p:nvPr>
        </p:nvSpPr>
        <p:spPr>
          <a:xfrm>
            <a:off x="825120" y="4455720"/>
            <a:ext cx="7543800" cy="114300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637052"/>
              </a:solidFill>
              <a:latin typeface="Calibri Light"/>
            </a:endParaRPr>
          </a:p>
        </p:txBody>
      </p:sp>
      <p:sp>
        <p:nvSpPr>
          <p:cNvPr id="306" name="Номер слайда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C8E2-8964-4605-B64A-7FE524FC19F2}"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alibri"/>
              </a:rPr>
              <a:t>За один день человек совершает 20 000  вздохов и столько же выдохов. При вздохе происходит насыщение организма кислородом.</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alibri"/>
              </a:rPr>
              <a:t>                            </a:t>
            </a:r>
            <a:r>
              <a:rPr b="1" i="1" lang="ru-RU" sz="2800" spc="-1" strike="noStrike">
                <a:solidFill>
                  <a:srgbClr val="404040"/>
                </a:solidFill>
                <a:latin typeface="Calibri"/>
              </a:rPr>
              <a:t>Пример задачи.</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alibri"/>
              </a:rPr>
              <a:t>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alibri"/>
              </a:rPr>
              <a:t> </a:t>
            </a:r>
            <a:r>
              <a:rPr b="1" i="1" lang="ru-RU" sz="2800" spc="-1" strike="noStrike">
                <a:solidFill>
                  <a:srgbClr val="404040"/>
                </a:solidFill>
                <a:latin typeface="Calibri"/>
              </a:rPr>
              <a:t>Сколько вздохов и выдохов человек совершает за неделю?</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4" name="Номер слайда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DB37-546E-460E-A211-0E54F4DC218D}"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Номер слайда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DE45-F58C-4880-967A-A9651782C131}"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pic>
        <p:nvPicPr>
          <p:cNvPr id="336" name="Рисунок 3" descr="C:\Users\PC_USER\Desktop\image-4.jpg"/>
          <p:cNvPicPr/>
          <p:nvPr/>
        </p:nvPicPr>
        <p:blipFill>
          <a:blip r:embed="rId1"/>
          <a:stretch/>
        </p:blipFill>
        <p:spPr>
          <a:xfrm>
            <a:off x="1601640" y="1200240"/>
            <a:ext cx="5940720" cy="445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100" spc="-1" strike="noStrike">
                <a:solidFill>
                  <a:srgbClr val="404040"/>
                </a:solidFill>
                <a:latin typeface="Times New Roman"/>
                <a:ea typeface="Times New Roman"/>
              </a:rPr>
              <a:t>Прочитайте часть текста о расстоянии от Земли до Солнца</a:t>
            </a:r>
            <a:endParaRPr b="0" lang="en-US" sz="3100" spc="-1" strike="noStrike">
              <a:solidFill>
                <a:srgbClr val="404040"/>
              </a:solidFill>
              <a:latin typeface="Calibri Light"/>
            </a:endParaRPr>
          </a:p>
        </p:txBody>
      </p:sp>
      <p:sp>
        <p:nvSpPr>
          <p:cNvPr id="308" name=""/>
          <p:cNvSpPr txBox="1"/>
          <p:nvPr/>
        </p:nvSpPr>
        <p:spPr>
          <a:xfrm>
            <a:off x="821880" y="1846440"/>
            <a:ext cx="7543800" cy="4022640"/>
          </a:xfrm>
          <a:prstGeom prst="rect">
            <a:avLst/>
          </a:prstGeom>
          <a:noFill/>
          <a:ln w="0">
            <a:noFill/>
          </a:ln>
        </p:spPr>
        <p:txBody>
          <a:bodyPr lIns="0" rIns="0" anchor="t">
            <a:normAutofit/>
          </a:bodyPr>
          <a:p>
            <a:pPr marL="90360" indent="-90360" algn="just">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alibri"/>
              </a:rPr>
              <a:t>Свет от Солнца долетает до Земли за 8 минут и 20 секунд. Для того, чтобы дойти до Солнца пешком, потребовалось бы 2000 лет, чтобы доехать до Солнца на автомобиле, нужно было бы 200 лет, чтобы долететь до Солнца на самолёте, надо 20 лет.</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9" name="Номер слайда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97FB-78AC-4C64-BAF8-F264D7412807}"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404040"/>
                </a:solidFill>
                <a:latin typeface="Times New Roman"/>
                <a:ea typeface="Times New Roman"/>
              </a:rPr>
              <a:t>Решение</a:t>
            </a:r>
            <a:endParaRPr b="0" lang="en-US" sz="4800" spc="-1" strike="noStrike">
              <a:solidFill>
                <a:srgbClr val="404040"/>
              </a:solidFill>
              <a:latin typeface="Calibri Light"/>
            </a:endParaRPr>
          </a:p>
        </p:txBody>
      </p:sp>
      <p:sp>
        <p:nvSpPr>
          <p:cNvPr id="311"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04040"/>
                </a:solidFill>
                <a:latin typeface="Times New Roman"/>
                <a:ea typeface="Times New Roman"/>
              </a:rPr>
              <a:t>200-20=180 лет.</a:t>
            </a:r>
            <a:endParaRPr b="0" lang="en-US" sz="3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04040"/>
                </a:solidFill>
                <a:latin typeface="Times New Roman"/>
                <a:ea typeface="Times New Roman"/>
              </a:rPr>
              <a:t> </a:t>
            </a:r>
            <a:r>
              <a:rPr b="1" lang="ru-RU" sz="3600" spc="-1" strike="noStrike">
                <a:solidFill>
                  <a:srgbClr val="404040"/>
                </a:solidFill>
                <a:latin typeface="Times New Roman"/>
                <a:ea typeface="Times New Roman"/>
              </a:rPr>
              <a:t>Ответ: На 180 лет быстрее на самолете.</a:t>
            </a:r>
            <a:endParaRPr b="0" lang="en-US" sz="3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12" name="Номер слайда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6BBA-D93B-4F68-9016-7B3B08A9873E}"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404040"/>
                </a:solidFill>
                <a:latin typeface="Times New Roman"/>
                <a:ea typeface="Times New Roman"/>
              </a:rPr>
              <a:t>Учебная задача</a:t>
            </a:r>
            <a:endParaRPr b="0" lang="en-US" sz="4800" spc="-1" strike="noStrike">
              <a:solidFill>
                <a:srgbClr val="404040"/>
              </a:solidFill>
              <a:latin typeface="Calibri Light"/>
            </a:endParaRPr>
          </a:p>
        </p:txBody>
      </p:sp>
      <p:sp>
        <p:nvSpPr>
          <p:cNvPr id="3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404040"/>
                </a:solidFill>
                <a:uFillTx/>
                <a:latin typeface="Times New Roman"/>
                <a:ea typeface="Times New Roman"/>
              </a:rPr>
              <a:t>Мы изобрели космолет. Он медленнее скорости света только в два раза. За какое время космолет достигнет Солнца?</a:t>
            </a:r>
            <a:endParaRPr b="0" lang="en-US" sz="3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404040"/>
                </a:solidFill>
                <a:uFillTx/>
                <a:latin typeface="Times New Roman"/>
                <a:ea typeface="Times New Roman"/>
              </a:rPr>
              <a:t> </a:t>
            </a:r>
            <a:r>
              <a:rPr b="0" lang="ru-RU" sz="3600" spc="-1" strike="noStrike" u="sng">
                <a:solidFill>
                  <a:srgbClr val="404040"/>
                </a:solidFill>
                <a:uFillTx/>
                <a:latin typeface="Times New Roman"/>
                <a:ea typeface="Times New Roman"/>
              </a:rPr>
              <a:t>Запишите действия и ответ в секундах. Что для этого мы должны сделать</a:t>
            </a:r>
            <a:r>
              <a:rPr b="0" lang="ru-RU" sz="3600" spc="-1" strike="noStrike">
                <a:solidFill>
                  <a:srgbClr val="404040"/>
                </a:solidFill>
                <a:latin typeface="Times New Roman"/>
                <a:ea typeface="Times New Roman"/>
              </a:rPr>
              <a:t>? </a:t>
            </a:r>
            <a:endParaRPr b="0" lang="en-US" sz="3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15" name="Номер слайда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503C-4642-4A08-861A-B7F07E2B3159}"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404040"/>
                </a:solidFill>
                <a:latin typeface="Calibri Light"/>
              </a:rPr>
              <a:t>РЕШЕНИЕ</a:t>
            </a:r>
            <a:endParaRPr b="0" lang="en-US" sz="4800" spc="-1" strike="noStrike">
              <a:solidFill>
                <a:srgbClr val="404040"/>
              </a:solidFill>
              <a:latin typeface="Calibri Light"/>
            </a:endParaRPr>
          </a:p>
        </p:txBody>
      </p:sp>
      <p:sp>
        <p:nvSpPr>
          <p:cNvPr id="317"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8 минут и 20 секунд= 8*60=480секунд.</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1.480+20=500 сек.</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2.500:2=250 сек.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Ответ: За 250 секунд.</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Или 4 минуты 10 секунд.</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  </a:t>
            </a:r>
            <a:r>
              <a:rPr b="0" lang="ru-RU" sz="2400" spc="-1" strike="noStrike">
                <a:solidFill>
                  <a:srgbClr val="404040"/>
                </a:solidFill>
                <a:latin typeface="Times New Roman"/>
                <a:ea typeface="Times New Roman"/>
              </a:rPr>
              <a:t>Второй способ?</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imes New Roman"/>
                <a:ea typeface="Times New Roman"/>
              </a:rPr>
              <a:t> </a:t>
            </a:r>
            <a:r>
              <a:rPr b="0" lang="ru-RU" sz="2400" spc="-1" strike="noStrike">
                <a:solidFill>
                  <a:srgbClr val="404040"/>
                </a:solidFill>
                <a:latin typeface="Times New Roman"/>
                <a:ea typeface="Times New Roman"/>
              </a:rPr>
              <a:t>Можно уменьшить минуты в два раза, а затем секунды и записать ответ.</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18" name="Номер слайда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AB28-EDBD-4908-A656-7B75C194B3CF}"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404040"/>
                </a:solidFill>
                <a:latin typeface="Times New Roman"/>
                <a:ea typeface="Times New Roman"/>
              </a:rPr>
              <a:t>Найдите абзац в тексте </a:t>
            </a:r>
            <a:endParaRPr b="0" lang="en-US" sz="4800" spc="-1" strike="noStrike">
              <a:solidFill>
                <a:srgbClr val="404040"/>
              </a:solidFill>
              <a:latin typeface="Calibri Light"/>
            </a:endParaRPr>
          </a:p>
        </p:txBody>
      </p:sp>
      <p:sp>
        <p:nvSpPr>
          <p:cNvPr id="32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Calibri"/>
              </a:rPr>
              <a:t>Надо избегать пребывания на солнце с 12- 15 часов дня, когда солнечная активность наиболее высока. Загорать лучше с 8 до 11 часов, а затем с 16 до 19 часов.</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404040"/>
                </a:solidFill>
                <a:latin typeface="Calibri"/>
              </a:rPr>
              <a:t>Задание:</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Calibri"/>
              </a:rPr>
              <a:t> </a:t>
            </a:r>
            <a:r>
              <a:rPr b="0" i="1" lang="ru-RU" sz="3200" spc="-1" strike="noStrike">
                <a:solidFill>
                  <a:srgbClr val="404040"/>
                </a:solidFill>
                <a:latin typeface="Calibri"/>
              </a:rPr>
              <a:t>Составьте задачу самостоятельно, используя эти числовые данные</a:t>
            </a:r>
            <a:r>
              <a:rPr b="0" lang="ru-RU" sz="3200" spc="-1" strike="noStrike">
                <a:solidFill>
                  <a:srgbClr val="404040"/>
                </a:solidFill>
                <a:latin typeface="Calibri"/>
              </a:rPr>
              <a:t> </a:t>
            </a:r>
            <a:endParaRPr b="0" lang="en-US" sz="3200" spc="-1" strike="noStrike">
              <a:solidFill>
                <a:srgbClr val="404040"/>
              </a:solidFill>
              <a:latin typeface="Calibri"/>
            </a:endParaRPr>
          </a:p>
        </p:txBody>
      </p:sp>
      <p:sp>
        <p:nvSpPr>
          <p:cNvPr id="321" name="Номер слайда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2E08-CE96-4964-9A88-889CDB566176}"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404040"/>
                </a:solidFill>
                <a:latin typeface="Calibri Light"/>
              </a:rPr>
              <a:t>Пример задачи</a:t>
            </a:r>
            <a:endParaRPr b="0" lang="en-US" sz="4800" spc="-1" strike="noStrike">
              <a:solidFill>
                <a:srgbClr val="404040"/>
              </a:solidFill>
              <a:latin typeface="Calibri Light"/>
            </a:endParaRPr>
          </a:p>
        </p:txBody>
      </p:sp>
      <p:sp>
        <p:nvSpPr>
          <p:cNvPr id="32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404040"/>
                </a:solidFill>
                <a:latin typeface="Calibri"/>
              </a:rPr>
              <a:t>Миша загорал  с 9.00. до 10.30. И вечером с 18.30. до 19.00. Сколько  часов всего загорал Миша?</a:t>
            </a:r>
            <a:endParaRPr b="0" lang="en-US" sz="4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Calibri"/>
            </a:endParaRPr>
          </a:p>
        </p:txBody>
      </p:sp>
      <p:sp>
        <p:nvSpPr>
          <p:cNvPr id="324" name="Номер слайда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F88F-CCFA-491E-81A8-6B5148CE9D75}"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404040"/>
                </a:solidFill>
                <a:latin typeface="Calibri Light"/>
              </a:rPr>
              <a:t>Проверьте решение</a:t>
            </a:r>
            <a:endParaRPr b="0" lang="en-US" sz="4800" spc="-1" strike="noStrike">
              <a:solidFill>
                <a:srgbClr val="404040"/>
              </a:solidFill>
              <a:latin typeface="Calibri Light"/>
            </a:endParaRPr>
          </a:p>
        </p:txBody>
      </p:sp>
      <p:sp>
        <p:nvSpPr>
          <p:cNvPr id="32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404040"/>
                </a:solidFill>
                <a:latin typeface="Calibri"/>
              </a:rPr>
              <a:t>1.10-.30.-9.00.=1ч.30 мин.</a:t>
            </a:r>
            <a:endParaRPr b="0" lang="en-US" sz="3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404040"/>
                </a:solidFill>
                <a:latin typeface="Calibri"/>
              </a:rPr>
              <a:t>2. 19.00.-18.30.=30 минут.</a:t>
            </a:r>
            <a:endParaRPr b="0" lang="en-US" sz="3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404040"/>
                </a:solidFill>
                <a:latin typeface="Calibri"/>
              </a:rPr>
              <a:t>3. 1ч.30 минут+30 минут=2 часа.</a:t>
            </a:r>
            <a:endParaRPr b="0" lang="en-US" sz="3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404040"/>
                </a:solidFill>
                <a:latin typeface="Calibri"/>
              </a:rPr>
              <a:t>Ответ: Всего 2 часа загорал Миша</a:t>
            </a:r>
            <a:r>
              <a:rPr b="1" i="1" lang="ru-RU" sz="3600" spc="-1" strike="noStrike">
                <a:solidFill>
                  <a:srgbClr val="404040"/>
                </a:solidFill>
                <a:latin typeface="Calibri"/>
              </a:rPr>
              <a:t>.</a:t>
            </a:r>
            <a:endParaRPr b="0" lang="en-US" sz="3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7" name="Номер слайда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CDCE-5885-4FCD-9E38-B12EAEA9FCC0}"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404040"/>
                </a:solidFill>
                <a:latin typeface="Calibri Light"/>
              </a:rPr>
              <a:t>Пример заданий к дню Солнца</a:t>
            </a:r>
            <a:endParaRPr b="0" lang="en-US" sz="4800" spc="-1" strike="noStrike">
              <a:solidFill>
                <a:srgbClr val="404040"/>
              </a:solidFill>
              <a:latin typeface="Calibri Light"/>
            </a:endParaRPr>
          </a:p>
        </p:txBody>
      </p:sp>
      <p:sp>
        <p:nvSpPr>
          <p:cNvPr id="329"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Times New Roman"/>
                <a:ea typeface="Times New Roman"/>
              </a:rPr>
              <a:t>Сколько дней назад был этот день?  Или через сколько дней после 30 апреля   бывает день Солнца?</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Times New Roman"/>
                <a:ea typeface="Times New Roman"/>
              </a:rPr>
              <a:t>Или: Найдите в календаре эту дату и скажите, на какой день недели она приходится в 2023 году?</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0" name="Номер слайда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08C0-2005-4A0E-B6B1-AB0C95D210D2}"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pic>
        <p:nvPicPr>
          <p:cNvPr id="331" name="Рисунок 3" descr=""/>
          <p:cNvPicPr/>
          <p:nvPr/>
        </p:nvPicPr>
        <p:blipFill>
          <a:blip r:embed="rId1"/>
          <a:stretch/>
        </p:blipFill>
        <p:spPr>
          <a:xfrm>
            <a:off x="6775560" y="326880"/>
            <a:ext cx="2044440" cy="14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10:45:43Z</dcterms:created>
  <dc:creator>sysadmin</dc:creator>
  <dc:description/>
  <dc:language>en-US</dc:language>
  <cp:lastModifiedBy>PC_USER</cp:lastModifiedBy>
  <dcterms:modified xsi:type="dcterms:W3CDTF">2023-04-24T11:27:19Z</dcterms:modified>
  <cp:revision>1186</cp:revision>
  <dc:subject/>
  <dc:title>«ПОДГОТОВКА ПРОФЕССИОНАЛЬНЫХ КАДРОВ ДЛЯ ЭКОНОМИКИ РЕГИОНА: СОСТОЯНИЕ, ПРИОРИТЕТЫ, ПЕРСПЕКТИВЫ»  11 ноября 2010 года</dc:title>
</cp:coreProperties>
</file>