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3FA-5267-4213-8C54-F8DC7A46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3CC-3829-4FA3-8B5F-C05F1514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4676F-BD0D-4049-95E7-697DAC52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0E2E5-EBC2-42CE-8A61-58C8174B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13EC5-5754-42F2-90C0-AEE8CE68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62F53-26E3-4990-86D2-A80AA13E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66603-48DF-49E3-8BDF-11CB24FC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B877-47B6-4B95-8660-0BAD22DB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44587-EE8E-4F38-82E5-5762340D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0EDD7-DD25-4BF1-A19B-02C3BEAD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99706-45F5-4B59-B82B-06B6C3C3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88DE0-D844-439B-A3A1-35361F39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92A-5C51-4C80-8708-7D63970D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39DB6-EF7B-412D-B8E5-0D52BE3E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2D537-5338-41C7-834C-312786E7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E5D47-E4BF-4DEF-97F2-46ED6492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A1109-20B7-4E3F-A9A8-AB345599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B06AC-C850-405E-9666-AC411D9F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D6685-A78B-453B-A850-B38B501A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83C0D-590E-4BF6-AADB-83058D5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5D792-49C3-4877-84ED-119FA411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C7D2E-3523-42C7-A024-FF8B780E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474A6-C192-44C8-8BCE-64A2EFED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D1E-9865-46D5-BE62-5292C315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54FDB-F6E5-4F1A-8331-C98E54CD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5F4BB-2613-4AC5-8FAC-E81283F5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92064-ECFA-4DC0-A3D8-C33F00AD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554BF-7012-4FA8-9FD5-C7389860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1F9E3-C0B5-4831-A0B0-A0ED92CD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2BAE0-0EA4-4C53-9619-E44C0FCC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22608-C9AB-4CC5-BF30-C180F15A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3C226-8D11-4E2E-9708-A2B3407A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4D784-3990-4BD2-8AED-F59F3C5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A7C8C-AE3F-467C-AAA2-28CA977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0743-5548-42D2-99C3-CB1A406C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14360-063E-4F61-90D4-97A70AA1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C4F0F-BFAA-44D0-88CB-9D1E8E9A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C4140-B1BC-4526-A24F-9C3CF6EE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D646C-527D-43F6-8577-92291A56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D5E34-82D9-47E3-A2CD-0DD90D0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DCA7A-2489-4481-92AA-DF06C07C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EEA23-B7F6-43C9-B80A-01A31DBD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43DC5-3DE8-4309-81EC-737898C5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DC6C9-8EE3-4BB8-9F91-7EBCD498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A4241-9FDF-4467-92DA-6E5F1E8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6FC8-59C9-4598-8732-4C986133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EA781-CDD1-48B6-B605-F5F51416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B6A73-47FF-43A4-ACD8-7D9255D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7FC9B-B13B-432B-A460-3B3D9434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E413B-12BA-40A9-A6E5-A94B54EE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3B52C-22B7-4B1B-ADAA-F12B927A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4E39F-CAE1-47F6-80B5-CAC284BC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D2DB6-76DA-406A-8AA1-612E6659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83CF5-A4EF-4228-8C5C-49DE0211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BCF0C-D1A1-4E21-B6BE-0E808ACC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7CE70-DC4E-4EED-9FA0-0EADA830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F178-06B6-4B4F-A45B-5469EE5C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E49F5-6589-45E4-9914-08FC0380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43F64-106A-4C5A-976C-4BDB3EE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84AEC-61BE-43D9-8182-02A3BFA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92590-0C7F-4D3E-A394-572854EF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8B3B7-DEA6-4E77-81BE-FBA1D1BD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4BE91-6313-4286-93EC-8208F18D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5A3C0-5C55-4D64-9FB9-45C16C8D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9A106-5E5A-4232-B0AB-F744B1E4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2C506-D80F-49C2-9727-A5C0F90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82DF3-F51A-46C4-BE2E-81BF74C8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814A-6031-49B9-AFB2-55BA46BA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7310A-3C30-4429-9180-6640FC2B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AA5F4-D01E-4DEF-8595-6CE74E20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ECF2C-62DB-4BF4-96B4-27CEF7CE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62A3F-78CA-4D53-9C26-A28EAA80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6BFEE-3F7B-4D26-A716-AA9D1E2E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F0DFE-4B47-481A-813A-EE706386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143DE-F603-4558-956A-6C728FBF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6F649-2923-49AF-A345-0757A7EF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DC35F-E898-4E78-9AB4-E30644E2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7B268-11B5-47DC-9A44-3411778F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64D7-3F12-48A2-B09D-7ACF5159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CA9C3-797C-4613-9D41-BB194946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CEAD5-2185-415A-B098-718D43BF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F0B67-3B23-4D45-9AFC-8AC2758B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22706-B7B4-4350-A60D-E205DC94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B0F3F-2F50-4836-9F0F-7F522824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53B5A-65DA-4C11-8754-271400E9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5CCA0-78F9-4B9B-A183-79110FA2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1456E-AE29-46C2-9864-7E54795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5225B-69D0-4476-9531-A33285AC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F3F3B-4E3E-4767-9A4B-FA5726D3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5784-16FF-483D-B20E-339B2B84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F0938-025D-4CE8-99E0-3ABACF1B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B22C1-0EBB-48CA-84C0-2942E489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7EE9A-BEB3-4C82-9B0F-EB824CC9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82FA9-1C31-47B3-B9DD-AF3ABAE1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A863C-A1BD-49DF-B7C5-1D512163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AFF70-BAFC-4032-8F6E-E35F6ECA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05D36-A732-425A-996A-37E5504B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F3591-BFE1-4EF8-BA85-7AAA0381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D855A-35B3-4159-B768-1E1F1EC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39B40-BDAF-422F-A00C-504C4DE0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07D1-1B5A-41AB-9E61-7885AFE0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CFA9A-F0D9-483B-8F73-CBF95F25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D9BA5-253E-4660-980E-0102CB62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3E6E2-3D34-44B1-BB61-062291D5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20925-4839-42C5-B38E-71616FCD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D59B46-C77B-4CC1-BB02-0AAB5E9F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FD4F5-4331-442F-84F9-B571E805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CDD2A-8E46-40C6-9827-6626108B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274E1-194F-4DD6-8564-B0568551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65330-B27F-43B1-A1A1-3D4A651D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BE2C9-EDF9-4DD6-A36E-56E59DF3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1EE-2F5F-4206-8014-E489FEEC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5856-3BB4-4A5E-AC21-6525974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3F556-963F-4F94-AAF1-78197BBE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BC403-1F9A-41B2-8DAF-33C445C0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70F93-0E83-40BF-A4A7-83CF0696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E62D1-FAD6-429E-87BF-B569C180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1AFE0-3CE4-4FB2-A190-127341F4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FCB7F-5F78-4B71-9079-56AFF82E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617825-5FA5-4CAF-9BC6-A97C84C2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92CCF-7BB5-4E44-891E-D9ACCA8F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F58B3-19B7-4BF7-AB65-65A078E3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1F5D4-4535-4489-A64A-4E90D82C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C80A-F419-46A2-B946-CD16997B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C7CF7-B471-407B-B9F0-70E456B5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42A22-B32D-49A2-8075-CDA44C36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F9C3E-D29E-40BE-BBBC-4C98494B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EAB1F-485A-440B-9983-2262A4E8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A2876-9CEA-4749-AFB4-526809CC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D0BD3-7FD3-4059-B751-702F3905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965D28-48C9-467A-B8F1-5C49FE4B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DFBA-2723-4282-B807-5D1E2BFD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A5FF-45F2-48AC-9547-2CFA9F89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CD57-F882-46FD-AC8E-9083B4D1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B31B-6EA6-44AF-8D94-243BA59A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E087-E813-400E-A11E-5300EB7A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AD4A-3086-45DB-BAA7-653D978A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2F43-582E-442E-922A-CA55DABD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D523-9FEF-4218-8EAF-380018A2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C46-F716-46C8-BF33-95B3867F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1ADB-C738-4659-A2AF-F2CDB6B0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9649-6767-4FB7-9E95-093C3A6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47AB3-CFC6-41BF-88CA-7F9AC8B6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A76B-636C-4164-8C83-4892B13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D94A5-AB56-41D6-9C55-292EC86E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FA3B-F8FE-4718-8BC7-F1D461E7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250A4-2B38-447F-A8F7-5D170802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CC99-C26D-483C-B9FD-CC8915D7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5E6F-DEAD-47D8-BDF0-1809EA40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6D176-2C09-4DE5-8097-45392388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76E-E38F-4535-8B5B-A6629A21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7E99-6419-44EF-BE85-17AAE463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E90D-931E-4A1C-B4B8-BCA18192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2E9A-C62C-47D9-93EA-36A303BD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896B-9CAF-4933-9276-87C6C31D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956C-548F-4D9A-BA13-7FEDD8B7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E5F4-976A-4EC7-99F7-716A2F49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B9CE-806E-491C-8D4E-9EC0F5A6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71B30-A6F3-48F9-8390-0C1A9854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6DB05-E996-4604-9025-D45DBA37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1FE1C-CF61-46B1-9851-1D34A080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DC2-B5E1-4A65-8AFF-1962D41C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614E4-1F4C-4296-8821-F6C3F061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084A-1F4E-4209-84FA-CDE11BB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D7EC1-343C-418F-9781-524C804B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F17A-7927-461C-AB43-B247AAC7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C8639-4399-4860-8294-9E8B974E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608E-69FB-4139-8E25-933B9C81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3B83-CBD1-4A54-B69C-91223AA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05F2-69BA-47F0-8F26-ED24384C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63FC-536E-4DC7-85CA-19C6889B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F1095-7081-4B52-BB62-36446D5E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786-94C1-4832-BEFE-829C3962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48D1A-0D93-4E82-B099-E2A51C22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DF2DD-7B57-45BB-AFDA-6A4C84FB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BACFC-DADE-4AF7-8877-7301DB05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2DF65-8DF9-4204-BF81-375F8700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A3AE-11F6-4857-8CF5-5D40E5FC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5142B-15AE-4F51-967F-8CCC0419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5F3D-6B03-499D-93D2-5597F337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DA138-1CA1-4730-80CD-BFD10A0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E0840-11AC-4CEC-8ED4-A8722AE2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2417-B403-409C-891C-EB2F1343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AFA-F9EA-4CF5-BD1A-5432279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4D9A8-3D0A-45C8-8BD2-362B51A3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8513-11AD-4954-ADFD-FC1CAB66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813A3-2FF5-48EA-88D7-CDC2BDF2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974A5-2F34-4BDC-B966-D49154DD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AB82B-6BB9-438D-9233-A12BE637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CAA3D-FDFF-4D2F-84C5-5D68FA39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4DF4D-1310-4C17-962A-AD63B487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5CA47-C3DD-45C4-B2B7-AD66887E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7BE2-7071-4BBE-9275-C5543A0E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29A4A-6567-4FED-B028-DFDA7BF3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AB5-A7D4-4341-892E-CB1C99C0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1A581-5804-465C-A88F-FB4E63FE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B8141-2B2B-4447-B782-F1D78DAB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C909C-E4EC-4D91-8452-01DC9CCF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F54DF-484A-478F-8B04-7BC32C50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2893C-6AEE-4958-A868-B53A5C99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732AF-0DD8-47A9-8F12-C0D4DBA2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8DA85-6395-40AA-9095-CFA6C7B3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65359-7469-4CC0-9909-03026ADB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429BB-2C4A-48B3-BA4B-7B1BF7AF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57E3D-DEC6-4FA1-8B48-7C2CE83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6B7-3C38-4B71-9797-387F99D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DAB92-DE06-4EA9-874B-EF8A5AB5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A63B2-EB43-4673-AC36-AA6FC92C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B4223-134A-476A-BE70-AB125A8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3C565-2A89-444C-AD1A-B713D75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BCB9B-C5BB-476F-9DD9-4FC1CE1B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16755-09ED-418F-BA3D-056A977B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1161B-C2EE-40A4-8772-3AC7C271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C4247-BDB8-491C-A5DA-3EF4AA2C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66892-6BF3-4567-A89E-E5D7EF6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13469-3690-4F3D-A262-783F2C7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07744-C553-46B1-AF9B-3E863C7DE4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69117-66DC-4773-94BA-9B4FE200C6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0F624-5724-44A7-A673-F4B5B7FD8B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9BD72-B1EF-495D-9A76-3479862E5D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C112A-4EC9-421C-AFE1-F994D4E7BD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0FB22-7DAD-4478-BC86-EB4529A85C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2BB8F-43DB-4B6B-BC42-27BA25DA22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A2B1E-7565-40CC-B115-A4E4DE81C8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960F7-706D-42BF-B36F-A7DE25D094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F52EA-9936-429E-9D46-F714F409BD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81B65-4446-4C8F-A0B8-964EA3B27B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5E3A8-FC09-4358-940F-644D91176F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6A957-1643-466C-8F07-2942FDC4C8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12C69-06EF-4D9D-B668-CA1BF52102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62913-6D0A-430C-9897-60791AEE51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43150-ABDE-4F5A-86F7-BF8DBE37D8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6019B-25DD-4C31-955B-4CCA3C50FD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29A72-3D07-4427-95AB-5508F2E790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Рисунок 3" descr=""/>
          <p:cNvPicPr/>
          <p:nvPr/>
        </p:nvPicPr>
        <p:blipFill>
          <a:blip r:embed="rId1"/>
          <a:stretch/>
        </p:blipFill>
        <p:spPr>
          <a:xfrm>
            <a:off x="2408400" y="590400"/>
            <a:ext cx="7253280" cy="5432400"/>
          </a:xfrm>
          <a:prstGeom prst="rect">
            <a:avLst/>
          </a:prstGeom>
          <a:ln w="0">
            <a:noFill/>
          </a:ln>
        </p:spPr>
      </p:pic>
      <p:sp>
        <p:nvSpPr>
          <p:cNvPr id="776" name="Прямоугольник 4"/>
          <p:cNvSpPr/>
          <p:nvPr/>
        </p:nvSpPr>
        <p:spPr>
          <a:xfrm>
            <a:off x="233280" y="284652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YS Text"/>
              </a:rPr>
              <a:t>ЭКО</a:t>
            </a:r>
            <a:r>
              <a:rPr b="0" lang="ru-RU" sz="1800" spc="-1" strike="noStrike">
                <a:solidFill>
                  <a:srgbClr val="333333"/>
                </a:solidFill>
                <a:latin typeface="YS Text"/>
              </a:rPr>
              <a:t> -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YS Text"/>
              </a:rPr>
              <a:t>"дом"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YS Text"/>
              </a:rPr>
              <a:t>"местопребывание"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Прямоугольник 5"/>
          <p:cNvSpPr/>
          <p:nvPr/>
        </p:nvSpPr>
        <p:spPr>
          <a:xfrm>
            <a:off x="9441000" y="284652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YS Text"/>
              </a:rPr>
              <a:t>ЭКОЛОГИЯ</a:t>
            </a:r>
            <a:r>
              <a:rPr b="0" lang="ru-RU" sz="1800" spc="-1" strike="noStrike">
                <a:solidFill>
                  <a:srgbClr val="333333"/>
                </a:solidFill>
                <a:latin typeface="YS Text"/>
              </a:rPr>
              <a:t> -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YS Text"/>
              </a:rPr>
              <a:t>наука о правилах жизни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YS Text"/>
              </a:rPr>
              <a:t>в окружающем мир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Прямоугольник 4"/>
          <p:cNvSpPr/>
          <p:nvPr/>
        </p:nvSpPr>
        <p:spPr>
          <a:xfrm>
            <a:off x="3908520" y="1033560"/>
            <a:ext cx="709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Правила работы в паре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-слушать и слышать друг друга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-говорить четко, ясно и по делу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-возражать, аргументируя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уважать другое мнение.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9" name="Рисунок 5" descr=""/>
          <p:cNvPicPr/>
          <p:nvPr/>
        </p:nvPicPr>
        <p:blipFill>
          <a:blip r:embed="rId1"/>
          <a:stretch/>
        </p:blipFill>
        <p:spPr>
          <a:xfrm>
            <a:off x="565200" y="2394000"/>
            <a:ext cx="297972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707920" y="558720"/>
            <a:ext cx="648828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АЛГОРИТМ РАБОТЫ В ПАР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1" name="Рисунок 1" descr=""/>
          <p:cNvPicPr/>
          <p:nvPr/>
        </p:nvPicPr>
        <p:blipFill>
          <a:blip r:embed="rId1"/>
          <a:stretch/>
        </p:blipFill>
        <p:spPr>
          <a:xfrm>
            <a:off x="2225520" y="1427040"/>
            <a:ext cx="729792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716200" y="2498760"/>
            <a:ext cx="578016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w Cen MT"/>
              </a:rPr>
              <a:t>РАСХОДОВАНИЕ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w Cen MT"/>
              </a:rPr>
              <a:t>ЗАГРЯЗНЕНИЕ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1T12:47:53Z</dcterms:created>
  <dc:creator>PC_USER</dc:creator>
  <dc:description/>
  <dc:language>en-US</dc:language>
  <cp:lastModifiedBy>PC_USER</cp:lastModifiedBy>
  <dcterms:modified xsi:type="dcterms:W3CDTF">2023-04-21T13:06:17Z</dcterms:modified>
  <cp:revision>5</cp:revision>
  <dc:subject/>
  <dc:title>Презентация PowerPoint</dc:title>
</cp:coreProperties>
</file>