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E96-4799-40EF-9EE6-DE6EF365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3B1-8DAA-4271-9638-52E6B3C9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676-DB3C-4E29-8929-94D1F422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F74-3BCD-48BF-9BB4-3321BAEB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BF38-555F-4292-8B60-CE8D23A1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42C6-45F8-496F-AC22-CB6EB32B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1FFA-7121-4A43-A0CC-8442B097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58C1-A631-4831-9CFA-B2D5E745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AA8-93C4-445D-8291-C495A6EE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97E9-0D60-4DE1-B587-39E5D702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29FD-E04F-494A-AF0F-072A0AF7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4F1-185C-4629-AA9B-0940B545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A940-D29B-46FA-BEC8-25A0464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A92A-3FA7-4224-A523-6F1BC4E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71DE-2AD3-4948-9488-B0C5BA6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8825-94FF-48CC-99A8-4890940C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E796-C44C-4D69-8A68-004A608D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AC7E-F7C8-4A24-B663-ED4C5429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3E77-9DA4-4645-BA2F-9AC08D7C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88E3-35F1-4E51-BF2B-7F86B8E6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2385-515C-4213-A050-9E8A4CCF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86A4-7672-4E5F-A285-306D6065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4E0-6953-4CD3-A6B4-0AA5C702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824D-6A92-4B07-B746-93076607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6C51-7003-49EB-82A9-52FF4758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373E-EDD2-49AE-B793-48A145CA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36F48-E112-4651-9F60-D37F282C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51B7-C9D6-4D6A-8ED1-289CD5F2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8923-896E-4BA3-BBF4-B3E86693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DF26-DA90-4623-A6DA-C4D7102E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308AC-8414-4945-B2A2-16B8A70E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9D987-E0AC-4636-A9E3-4360235C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E223C-08CD-4B1F-A3A0-FAC035BB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586-1D80-4D9F-BA9D-A41E3365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17482-EEB6-4552-890A-C263E56C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D56F-B021-42A0-95B2-C65F3E0F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F109B-C341-423C-B673-1D5888A9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4C0FD-BE6D-48CF-84CF-83C959B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63974-2670-4040-ABBC-BE00D65B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190E-5E61-40AE-B4A9-F0229659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0920-56EB-41CC-AB2E-B037EEB1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90D5B-4DC1-4CDA-A651-D73A61FE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CAE7-8E25-44D4-A9C0-E23B67A8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40AB7-803A-4665-B16A-24F1D86C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938-3A1D-490F-BE43-DA6A464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75CB-0FF5-4B4D-84FF-E3B58A94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48BF-C389-4370-AE25-E4F3EB86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9842-D95D-4250-B946-6A9E75A9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4B5C-3AD7-4CE4-B7B0-27A1570C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E22B-7420-4AC8-AF40-B46E977F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B7FD9-EAD8-4104-A973-86169357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67AB-FD28-485C-B442-B95F450D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31AA-ADE3-446F-ABAE-77F253F7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F971-1B08-4B6E-9CEF-939360EA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5DBCE-B0C6-4267-9188-06E439A0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4EB-F346-43E9-9F7E-295E1578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B28D-B93F-4668-A5C2-69D1700D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0AA2B-C876-4D0E-ACAB-CE399A7B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6E476-26BB-40F0-881D-CB3F2C5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34018-C306-439A-A762-DA157D5B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8613F-4C06-4A51-A588-7E79122C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FEA3C-3337-4E77-9A1A-A32E6761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02668-CFB7-4D57-9ABD-BC75EE62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028B-62B2-48DD-94AC-AA339168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637D-A3A0-4A1F-B92C-F5CF876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6C06C-90C0-42E6-9B8A-79C35056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8B2-B074-4784-858F-CAF60739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FF9BB-452F-4A8E-B744-DE34C81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C395-C873-4882-80C9-F03428F2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607C-DDDD-4624-B99E-DA20DA10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137A2-4DEA-4932-BCF7-944ECA05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72B6-B340-428A-8F6B-02ABB644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B4EF-D16C-44BB-B9BF-F72DF3F0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A35B1-4848-49FE-8E7B-0A01BAD3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5D87B-F9DF-4E2F-AE40-F6C90910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D9D20-AA5B-4064-B8D7-7A13829E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64F89-53C5-4F37-AD53-A50D004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F0D-89C5-45C2-A836-7A9586E7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AA00A-4607-4CAF-A13A-85E4DB1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271AC-3AFA-4948-8492-57E33BBE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7CA6C-C1B0-40EF-983D-A50077B8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03C76-F3A5-408F-A370-0C87FDEE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29689-814E-4CC5-B568-D2A05A4F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FD4-6E1B-4AB6-9E5A-9319439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0494-EAC5-4721-A837-F32E93F40466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018F-B9F3-4412-A0FD-3CEE4F952D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6413-0AC5-4F74-8DBD-3D43B080D58F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5FA1-0EF2-4A73-AB70-C59F3F9AD9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89C4-33CE-4C20-A775-86BB88F81F0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5849-F49F-40DE-A696-93566A216B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569D-EFF5-4FF1-AAF0-47C5D89B8424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A7B8-EC57-471E-A7FB-17B51D3B2A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CBFB-330B-4CD0-8F03-2A3C5B00941C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122D-AA80-4E00-BDAB-839564125097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5416-5120-4A3A-9D2C-6DAF1A612613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4256-EEC0-4BA9-A7DF-6E25B9B15A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E644-58CF-404E-A697-72E2A72B4D7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72E-D82F-43F8-8D92-B8F9FA57EE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рок развития речи. Работа с текстом «Солнце, воздух и вода- условия жизни на Земле».</a:t>
            </a:r>
            <a:br>
              <a:rPr sz="4000"/>
            </a:br>
            <a:br>
              <a:rPr sz="31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637052"/>
              </a:solidFill>
              <a:latin typeface="Calibri Light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4F6C-8E9D-4703-BD75-702AEB477E5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гра «Да НЕТ»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1.Название «Голубая рубашка» относится к воде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2. День воды отмечается 22 марта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3. Солнце нуждается в защите и охране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4. Воздух на планете Земля нуждается в охране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5.Солнце является источником тепла и света на Земле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6.В слове воздух «воз» приставка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7. В озере Байкал самые большие запасы соленой воды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FA41-4AD8-4095-9CE0-E31C32541E6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 Light"/>
              </a:rPr>
              <a:t>ПРОВЕРЬТЕ СЕБ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1.Название «Голубая рубашка» относится к воде. (Нет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2. День воды отмечается 22 марта. (Да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3. Солнце нуждается в защите и охране. (Нет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4. Воздух на планете Земля нуждается в охране. (Да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5.Солнце является источником тепла и света на Земле. (Да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6.В слове воздух «воз» приставка. (Да)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7. В озере Байкал самые большие запасы соленой воды. (Нет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C617-E928-4260-8CE2-E52BA1B0C25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рьте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22240" y="2192400"/>
          <a:ext cx="7543800" cy="2386080"/>
        </p:xfrm>
        <a:graphic>
          <a:graphicData uri="http://schemas.openxmlformats.org/drawingml/2006/table">
            <a:tbl>
              <a:tblPr/>
              <a:tblGrid>
                <a:gridCol w="1662120"/>
                <a:gridCol w="5881680"/>
              </a:tblGrid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 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ий смыс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376920"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це-  большая и далекая звез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376920"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це дает свет и теп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76920"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а и вред Солнца для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628200"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8280" indent="142920" algn="just">
                        <a:lnSpc>
                          <a:spcPct val="103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 – условие жизни на Земле. Что такое воздух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  <p:sp>
        <p:nvSpPr>
          <p:cNvPr id="315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5246-8DEE-42C3-8515-E0986C24322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ишите предложение и обозначьте подлежащее и сказуемое</a:t>
            </a:r>
            <a:br>
              <a:rPr sz="43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ишите предложение и обозначьте подлежащее и сказуемо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 ряд – 7 предложени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 ряд-12предложени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 ряд-14 предложени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CF33-1CFC-40EE-A5A3-CC2A4BF3465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роверьте себ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alibri"/>
              </a:rPr>
              <a:t>№</a:t>
            </a:r>
            <a:r>
              <a:rPr b="1" i="1" lang="ru-RU" sz="2800" spc="-1" strike="noStrike">
                <a:solidFill>
                  <a:srgbClr val="404040"/>
                </a:solidFill>
                <a:latin typeface="Calibri"/>
              </a:rPr>
              <a:t>7. Солнце дает свет и тепло   всей планете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alibri"/>
              </a:rPr>
              <a:t>№ </a:t>
            </a:r>
            <a:r>
              <a:rPr b="1" i="1" lang="ru-RU" sz="2800" spc="-1" strike="noStrike">
                <a:solidFill>
                  <a:srgbClr val="404040"/>
                </a:solidFill>
                <a:latin typeface="Calibri"/>
              </a:rPr>
              <a:t>12. Зеленые  листья растений на свету  производят  кислород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alibri"/>
              </a:rPr>
              <a:t>№</a:t>
            </a:r>
            <a:r>
              <a:rPr b="1" i="1" lang="ru-RU" sz="2800" spc="-1" strike="noStrike">
                <a:solidFill>
                  <a:srgbClr val="404040"/>
                </a:solidFill>
                <a:latin typeface="Calibri"/>
              </a:rPr>
              <a:t>14. Солнечный свет заряжает нас позитивом и придает сил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A425-9737-443C-AB85-DA0D46F83E6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Деформированный план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1.Вода- одно из главных условий жизни на Земл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2.Солнце – главное условие жизни на Земл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3.Воздух -необходимое условие жизни на Земл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4.Польза и вред  Солнца для здоровья человек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5.Вода нуждается в охран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6.Охрана воздуха необходим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9F98-0136-4668-A57E-662F315C159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равильный план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Солнце – главное условие жизни на Земл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Польза и вред  Солнца для здоровья человек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Воздух -необходимое условие жизни на Земл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Охрана воздуха необходим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Вода- одно из главных условий жизни на Земл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 Вода нуждается в охране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679-BE65-480C-89FE-69D65C15EB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 Light"/>
              </a:rPr>
              <a:t>Рефлекси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4040"/>
                </a:solidFill>
                <a:latin typeface="Calibri"/>
              </a:rPr>
              <a:t>У меня получилось….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Calibri"/>
              </a:rPr>
              <a:t>Мне понравилось.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404040"/>
                </a:solidFill>
                <a:latin typeface="Calibri"/>
              </a:rPr>
              <a:t>Я потренировался…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Calibri"/>
              </a:rPr>
              <a:t>Мне еще было трудно</a:t>
            </a: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9574-1B6C-44BE-B75A-24A74440AB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0:45:43Z</dcterms:created>
  <dc:creator>sysadmin</dc:creator>
  <dc:description/>
  <dc:language>en-US</dc:language>
  <cp:lastModifiedBy>PC_USER</cp:lastModifiedBy>
  <dcterms:modified xsi:type="dcterms:W3CDTF">2023-04-24T11:38:06Z</dcterms:modified>
  <cp:revision>1187</cp:revision>
  <dc:subject/>
  <dc:title>«ПОДГОТОВКА ПРОФЕССИОНАЛЬНЫХ КАДРОВ ДЛЯ ЭКОНОМИКИ РЕГИОНА: СОСТОЯНИЕ, ПРИОРИТЕТЫ, ПЕРСПЕКТИВЫ»  11 ноября 2010 года</dc:title>
</cp:coreProperties>
</file>