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4D40-CDA8-4562-9824-D2EBED05AA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 министра образования на обновление содерж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EEB-219E-43A7-AE10-22D6EF5366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F52-8D3A-4D6D-A1A9-D6D61A79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4B5-A399-4677-BABD-BA2084A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81E-A2F4-4F92-8B72-65718493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346-00A0-48C1-9C42-CC3CBEFB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3A5D-3CE6-40C1-8E47-2DA65C7B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3B2E-5991-4641-9A49-F3DA7AAC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77D-1D1E-4949-A775-6A2A140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B24-696F-4169-B26E-DA7349AD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3051-0EA3-476B-A125-ED8FE7E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A203-30C9-4FE4-9DD1-880E6254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48CB-127F-4855-959F-C4ADFEB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777-66BC-4DA5-87A4-226F019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3EC-D415-4A90-AFF9-95174EE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6F1-E698-449A-9228-0E0410FE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7F3-96D0-48D6-A412-4FAB7D9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C22-8521-4E2A-BBF6-53E03B88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200-2098-4585-A826-1838510E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7866-48A4-4199-B5F3-B95EBC8A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2CEA-AED2-4543-8997-46D42D58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8F23-A33D-4978-B375-E9E3621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1E73-8CA8-49C1-B77F-6FCE2E2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5ADF-FFB6-4388-8E6E-9C114F4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772-2EFD-4531-AEB6-C35317E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6144-FDF6-4C6F-9EEA-EFEAA7F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0F8E-4B7C-4907-A75A-D8ADBF8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B335-A8BC-45CA-9E56-C7E4553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5651-7E39-42C1-907A-642F34B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0535-BFD4-4C26-BFFD-508D010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2712-3DC4-40D3-B3C9-FA59FD35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4865-EADF-4C16-BE3A-087A7B8D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EFF5-7B08-4D2A-B1EA-1532AB2A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C97C-B73A-4D6E-A04D-59C1C43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514E-CD85-40C8-8B07-8F3D0B9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E8D-4848-44BA-8CA2-865721EF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BAB5-7DFB-4FEC-B7AA-28A3127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BDF5-637F-44E9-9A8A-F93BE712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CB15-F868-406B-B315-464F57F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12D2-5B2A-44B5-9811-F1CB490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4505-6F61-4CC7-916C-88623BB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2AEF-8AA0-4EE7-8488-5364ADE9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1C09-87CC-479A-9005-0502956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5839-1A90-4EDB-AEEA-36C6F5C3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359D-6561-4F8B-AE79-05AB8E2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DA5B-F443-48EB-98E0-2C0EC03E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0A6-05CD-4080-896A-D6102779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EF94-7A94-450B-9BF2-AB73B4D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11D4-8372-468C-94AF-87F317C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E95C-D783-4FB9-8442-D9CF4ADB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09A2-C9FC-4CBE-B851-0F401FE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D788-5C5A-42DC-99DA-E7E08DCA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5F9D-DCBD-4B39-A97F-1F151C4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8387-506E-4AE5-B1A5-1279325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7334-142F-4D88-93D8-21210F0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96D3-092C-4394-A118-A2F78E4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18F6-641A-48EA-953B-43F1BD8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45D-684A-4A26-B0F6-F8774AF1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231F-F033-4A82-81D7-ADB0A8D1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B56E-C74A-41F7-BDEE-E0014594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5DBE-59E1-4F07-8F72-AEB09B8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C879-A069-491E-BDC8-45AE5D76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5298-7A6E-475B-8F66-44E42C3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22C0-0101-4722-AB92-214605B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7485-8232-4808-91D9-94CD6E9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835F3-381D-4486-8B94-3FF2065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DAF9-584E-425C-969A-78B726B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7812-F8DC-4FF4-A542-F46846C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3C9-DDDF-4503-95BC-36D14654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84E7-97D0-48F5-B6D7-1557F07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CD25-FBFA-4E31-A128-0E20ACBE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11EBC-FE6D-4A6B-8B3C-BD5F7253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1DB7-3B2D-4861-86D5-12503F2D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CBAF-E1FC-428D-945A-6316B28D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CFF1-7EA7-426B-88E4-FF50D99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37DF-0366-49DE-A6E1-BBE82F27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BC04-9951-4D89-9C26-75AC8C0F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464E-7235-4428-B1A2-79F7F72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1B7B-BB05-4569-B64C-289DBD6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6AC-1E87-4D1D-817B-ADA1945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6622-A660-4F84-93B5-A22B442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467E3-8C47-472D-A922-E12565E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AF7C-57A8-4561-A15E-41CCFE1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7720-C18E-478B-B68D-768D981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24CD-6702-4174-8481-40ADF29D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1CE-F10F-4504-B11A-DAE347E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741-84AE-4F17-870F-B596258BCE2C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250A-266A-4CBA-8032-4BDC1FE1FC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D19F-4091-46E3-89DF-04D397954A0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5705-8B82-455D-ADF4-64AD861F01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5AE-1644-4F75-879B-53B858E26748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E6B-87D9-4A9D-9DFE-9D061187A7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776A-8737-45D7-A3A1-FBBDCEC8D4AE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50E-2CD1-420F-AAFD-A6B655A6EF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035-01FB-4625-9D6A-1446745B903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366-7AE9-4765-A39A-0AEBAE54184C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B8C-1577-4F87-AA71-6C52E4BB5CA8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94EE-3209-4DAD-9F97-6408B7A3A0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FE3-2A12-41B6-AFE1-0743B5FBF8EC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9E3-8BC6-48A6-A1AD-58C47C7157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нце, воздух и вода- главные условия жизни на Земле</a:t>
            </a: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385-EBF9-408B-86BC-29CCF445C52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Подумайте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Вода главнее всех других условий. (?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Воздух важнее воды (?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Солнце не связано с водой. (?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1A5B-17EC-495A-B426-57D726FE670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822240" y="287280"/>
          <a:ext cx="7543800" cy="56419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  <a:gridCol w="1257480"/>
                <a:gridCol w="1257120"/>
                <a:gridCol w="1257480"/>
                <a:gridCol w="1257120"/>
              </a:tblGrid>
              <a:tr h="1823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е жизни на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тако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ства (2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ньше или позже других условий появи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ждается ли в охр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11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н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4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sp>
        <p:nvSpPr>
          <p:cNvPr id="340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014-3A31-4029-B26C-763D59741C9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22240" y="287280"/>
          <a:ext cx="7997760" cy="5743800"/>
        </p:xfrm>
        <a:graphic>
          <a:graphicData uri="http://schemas.openxmlformats.org/drawingml/2006/table">
            <a:tbl>
              <a:tblPr/>
              <a:tblGrid>
                <a:gridCol w="1257480"/>
                <a:gridCol w="836640"/>
                <a:gridCol w="1677960"/>
                <a:gridCol w="1562040"/>
                <a:gridCol w="1511280"/>
                <a:gridCol w="1152360"/>
              </a:tblGrid>
              <a:tr h="174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е жизни на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тако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ства (2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ньше или позже других условий появи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ждается ли в охр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н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ез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ет свет и теп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того 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оит из раскаленных га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ньше все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сь га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ет кислород для дыхания живым организ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зрачный, бесцветный, занимает место. Движ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 Солн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4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во всех живых организ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цветна, текуча, растворяет другие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 Солнца и во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sp>
        <p:nvSpPr>
          <p:cNvPr id="34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8D1-201E-4025-8D2F-59545BC94BC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берите и продолжите фразу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Все условия жизни на Земле взаимосвязаны, так как  без ……. не будет……, в …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</a:t>
            </a:r>
            <a:r>
              <a:rPr b="0" i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я не взаимосвязаны, так как  ………    будет  всегда, а в … нет…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5AD-E0B1-409C-8020-64DFF7CD43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ерем рюкзачок. Что узнали, то и положим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Объект 5" descr=""/>
          <p:cNvPicPr/>
          <p:nvPr/>
        </p:nvPicPr>
        <p:blipFill>
          <a:blip r:embed="rId1"/>
          <a:stretch/>
        </p:blipFill>
        <p:spPr>
          <a:xfrm>
            <a:off x="1509840" y="1846440"/>
            <a:ext cx="6168960" cy="402264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E1C-18E1-44E4-B620-61F400DDC33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Игра «ДА/НЕТ»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Для питья годится и пресная, и соленая вода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При помощи воды добывается электрический ток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Вода составляет большую часть тела человека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Без воздуха можно прожить 15 минут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олнце светит и в облачный день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0FF-3CE7-484D-9FEF-0CCB4D4A9C3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ВЕРЬ СЕБ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Для питья годится и пресная, и соленая вода. (Нет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ри помощи воды добывается электрический ток. (Да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Вода составляет большую часть тела человека. (Да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Без воздуха можно прожить 15 минут. (Нет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олнце светит и в облачный день.  (Да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13F-A2BC-452F-BB69-57359022EFD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5B2-1654-492E-B169-01D87286CF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3" descr=""/>
          <p:cNvPicPr/>
          <p:nvPr/>
        </p:nvPicPr>
        <p:blipFill>
          <a:blip r:embed="rId1"/>
          <a:stretch/>
        </p:blipFill>
        <p:spPr>
          <a:xfrm>
            <a:off x="762120" y="692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5520" y="404280"/>
            <a:ext cx="581508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лнце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7BB-B48F-4B0F-A3E3-80ECA6B92FA2}" type="slidenum">
              <a:rPr b="0" lang="ru-RU" sz="10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33480" y="0"/>
            <a:ext cx="2838240" cy="12952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03A-47C6-4724-91D8-9117972CB0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AFC1-E014-4D8D-B558-A99BFBA3A0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3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9DC-9AA2-4F2E-A8A2-07B5AB4C10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3" descr=""/>
          <p:cNvPicPr/>
          <p:nvPr/>
        </p:nvPicPr>
        <p:blipFill>
          <a:blip r:embed="rId1"/>
          <a:stretch/>
        </p:blipFill>
        <p:spPr>
          <a:xfrm>
            <a:off x="1154160" y="0"/>
            <a:ext cx="683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07E-2BDC-4D34-8C3E-D16A1FAC73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3" descr=""/>
          <p:cNvPicPr/>
          <p:nvPr/>
        </p:nvPicPr>
        <p:blipFill>
          <a:blip r:embed="rId1"/>
          <a:stretch/>
        </p:blipFill>
        <p:spPr>
          <a:xfrm>
            <a:off x="1138320" y="0"/>
            <a:ext cx="68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45:43Z</dcterms:created>
  <dc:creator>sysadmin</dc:creator>
  <dc:description/>
  <dc:language>en-US</dc:language>
  <cp:lastModifiedBy>PC_USER</cp:lastModifiedBy>
  <dcterms:modified xsi:type="dcterms:W3CDTF">2023-04-24T11:56:39Z</dcterms:modified>
  <cp:revision>1185</cp:revision>
  <dc:subject/>
  <dc:title>«ПОДГОТОВКА ПРОФЕССИОНАЛЬНЫХ КАДРОВ ДЛЯ ЭКОНОМИКИ РЕГИОНА: СОСТОЯНИЕ, ПРИОРИТЕТЫ, ПЕРСПЕКТИВЫ»  11 ноября 2010 года</dc:title>
</cp:coreProperties>
</file>